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D5F4-D898-4C9D-9835-06469689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BC6B-D42A-475A-9EFE-24A277A5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29A0-0923-4009-A33E-0E6145DC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1FB-AE44-4ABA-A905-416D1E61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C0EF3-F4B0-4C18-9897-8A351002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A37EB-890A-4CD9-B682-8DCFD3F6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E3645-F4DD-4DF8-A19C-85B0BD36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AD6E4-F2BB-4B68-9EA7-69DBBCB4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D6548-8A86-49A7-A4B6-147EEE4F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844CF-E2B1-43C8-90FD-8EC2E999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AF754-9344-4D4C-9896-D60FD356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1CE7-D968-4E3C-BFF2-D23B3F58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973AF-60FD-40A3-880C-00E30A2E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29F87-C177-4440-A95B-F509A7D3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AE365-361B-49D2-881C-445E6809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91620-C4B9-444B-8B50-5F93683D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B8BE4-75E3-4EA0-BFAA-154A8C2B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81E1-9E3D-4686-B8F9-07E3303D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061F-D899-42D4-9A75-A92FB7E5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93B-3162-4AC2-8DFA-1391C38F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8C5-5A21-426D-BE89-C7BAA6BA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E9C-0243-4727-A97F-417591A1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35D1-8747-4A70-9E91-2BD5E108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E52-D92C-45DC-AAEF-AB81C5B9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C437-DB1A-4FC4-84C5-C8AB9C682D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0E43-E20E-42D9-A869-3F0C4920F1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Geometry 1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nday, September 13, 20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student will bisect an ang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ll Work:  In your own words, define midpoint and bisect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ade WS 1.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iew QUI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lling Together Paragraph (page24 in NB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gments and Bisectors (page 25 in NB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ignment: Lesson 1.5, problems 4-13, 17-24, 31-42 (page 26 in noteboo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Geometry 1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ednesday, September 15, 20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angle postul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ll Work:  See the diagram on the board.  Name an obtuse, acute, straight angle.  List a pair of adjacent adjacent sid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ade HW 1.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IZ Monday-Angle Bisectors and Midpoi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IZ Monday-AIMS Revi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ord Probl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ignment:  Worksheet 1.6, AIMS W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20:33:51Z</dcterms:created>
  <dc:creator>tstephens</dc:creator>
  <dc:description/>
  <dc:language>en-US</dc:language>
  <cp:lastModifiedBy>tstephens</cp:lastModifiedBy>
  <dcterms:modified xsi:type="dcterms:W3CDTF">2010-09-15T16:48:57Z</dcterms:modified>
  <cp:revision>5</cp:revision>
  <dc:subject/>
  <dc:title>Geometry 1 Monday, September 13, 2010</dc:title>
</cp:coreProperties>
</file>